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0FB-06FD-4875-9440-795038B4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83C1-FC82-429D-99CA-D2BC8E1D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537-1CBC-40AA-BECB-007E98A8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B2A-558A-4455-915E-B04942B5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BFCA-C5B9-426D-B5C5-F5688F38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D96E-4402-4199-A3BC-86FFE6E3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6331-3771-4510-A960-746AA7C2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9CC0-50B4-4DCF-A01D-E05222F4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FC64-332E-414A-8AC8-03887C44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2234-DD93-43E0-9EE8-44E290B6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CBF0-1266-4E56-B24D-C184877D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679-B78D-4638-82A4-7F449BB7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BD3D-5C25-4494-ABB5-EFC9777F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291A-0FD6-4011-ACB6-22167CFB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3C2D-AF14-42ED-ACD1-F5A1ECC3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39B7-DD1C-435C-B03F-1B7CB06B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98AB-A199-4343-BE71-E503841D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3D9-E933-4A84-8D9C-35270456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BB2F-B06A-4CAC-A305-A46A55F4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B44-42CB-4EEA-8B17-5972A75C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16D-B243-44D0-BB59-B8B10ABE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2BC-9793-48EE-B617-260DBD5E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339-BF9E-4171-9800-5B62921E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9757-784B-43B7-9D52-BC00DD0D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1e8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16E9-C47B-4C6A-B688-82491FD2E391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d1e8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d1e8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1e8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d1e8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F6AF-194D-45D9-9970-5D03EC00406F}" type="slidenum">
              <a:rPr b="0" lang="ro-RO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00000" y="981000"/>
            <a:ext cx="763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Diagrama K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(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Know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/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Wonder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/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Learn</a:t>
            </a:r>
            <a:r>
              <a:rPr b="1" i="1" lang="ro-RO" sz="4000" spc="-1" strike="noStrike">
                <a:solidFill>
                  <a:srgbClr val="ff0000"/>
                </a:solidFill>
                <a:latin typeface="Arial Black"/>
              </a:rPr>
              <a:t>)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4221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Învăţare prin colaborare on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wik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55640" y="2273400"/>
          <a:ext cx="7772400" cy="41083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69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te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ki 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un site care permite utilizatorilor 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 îşi deschidă un cont(şi să îşi creeze un profil) şi apoi să posteze comentarii pe anumite teme sau să propună alte teme celorlaţi utilizato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m mă ajută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 ce e superior altor interfeţe care servesc la comunicare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 Wiki pot să adaug comentarii ulterior altor comentar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te interactiv şi mult mai facil decât alte interfeţe pentru e-mail sau ch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ate fi public sau priv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devenit un fenomen în plină ascensiu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blo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7240" y="226692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17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 un site pe care utilizatorii îşi postează opiniile, impresiile, chiar cu pretenţii de literatur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t obligat să citesc blog-uri(sau viaţa mă va obliga)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istă o sumedenie de blog-uri, pe teme atât de diferite, încât nu ştiu dacă cineva le-ar putea clasi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t fi interesat la un moment dat să citesc blog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zitatorii blog-urilor pot posta la rândul lor comentar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colaborare on-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233856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7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 ş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 ca un forum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t site-uri la care se afiliază diverse persoane interesate de un anumit subi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 accesat până acum asemenea site-uri , care oferă sfaturi despre sănătate sau despre defecţiunile maşin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2:27:15Z</dcterms:created>
  <dc:creator>Adriana</dc:creator>
  <dc:description/>
  <dc:language>en-US</dc:language>
  <cp:lastModifiedBy>www</cp:lastModifiedBy>
  <dcterms:modified xsi:type="dcterms:W3CDTF">2010-12-08T06:28:59Z</dcterms:modified>
  <cp:revision>11</cp:revision>
  <dc:subject/>
  <dc:title>Compuşi hidroxilici</dc:title>
</cp:coreProperties>
</file>